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7F9-20AA-4876-AA15-88DCDAAF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757-CF21-492A-B005-B38651E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1B4-DF3B-4091-B689-3CB5135E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634-DD33-4A8A-A28F-04FBC693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8A9-A26A-40AB-93E9-1B825C94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BBCA-5619-4DA4-9F8F-E166EF6F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7AE0-5F0B-44EB-9EA1-9FA1B535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6B0-832D-47A9-9EBE-44F992D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F055-CB9B-4BEC-87F8-1FA1EAD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41F6-3EB1-4E2A-A318-6B82A89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0CCE-0DEB-46BD-BFBD-35DB9CF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B26-BFEE-4673-A5CA-0000ACB4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F04-52B5-4A52-92B4-2FB99465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A637-9F7C-4DF3-8E46-19D3945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A41E-2CD5-4483-992C-7B5686B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D0AE-7145-409F-9727-0D5D3968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E3E2-77D8-4C83-8299-C6AF8F04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8649-077F-4018-9251-7A8BF008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0858-3C40-4B56-ADD2-DD7508C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678C-0DA3-4BFB-A456-7D9349A8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4890-7CDE-47AA-A92F-4888BAF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972A-2E69-4FDE-B4C3-90AF715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4E9-8716-43D8-9245-A23A40EE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59E9-BCBA-4492-A27E-47FA029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48D7-8755-4533-9749-342C90F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59F9-54E5-4A32-B10E-4E8C718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40A4-7A15-4557-B236-DDB1EEE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2D88-0CFE-409F-AA64-26D864E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F370-FFF0-4B2E-8FAD-574B6FEF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EC32-3FCD-46E0-AB14-640870F4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5671-51BB-4BA9-B39F-4EEB0AAF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3F70-4D67-48B4-B44B-72D889D1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BF03-B85E-4907-BD5C-7129AFA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480-DFA9-451A-AD48-A55E36C3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ADBC-7C7B-49E6-8CD2-832822E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2C53-13B3-446F-B6DD-5A4B8A1E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45DE-1205-47BD-AE35-FCBE35D4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07E1-B3D9-4F51-BDD7-1656E2A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4EC8-DE52-421A-9DC3-65B0AC3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AA85-4D0F-482B-8632-B4EBC866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705C-B904-48D3-8EF0-1AEC50FA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D7A7-267E-4347-9439-2820F1ED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5AE1-49FC-4E92-82CB-E4BBEA20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408B0-6DA9-4313-AA32-E4DBD6A1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184-BE39-4A6B-A924-47861FEE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EB7D-8631-437D-9DCB-3A91546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4CD5-51C3-433A-AF2E-A7146B8E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C153-596E-42CB-AC2D-FA95A159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0854-8A8F-4543-B3F4-11A3549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3AAF-9E22-4B23-A134-92825BD6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DBDCD-3C9A-4005-BB3B-03C6896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C296A-45E4-4C93-A8EE-53C741C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342B-1C10-4A0A-8BFF-E0F585E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129E-4FB1-4693-B4CC-46E38019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564E-7B93-4DDD-BDFB-FA60E270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AEF-2AD4-48C6-94A4-58F376B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F6C8-0D16-47F2-AE75-25B19298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A84-62D0-4050-AC86-6107185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6C5-E885-4DD3-8785-6D29FE5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E79-BF75-4181-8CA1-08FD586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7FF-C4B5-4421-BCC3-848DF72E7689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8FAC-5699-4E99-8BED-D26404037BFA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C7BA-1752-4298-95AC-68ED5074DDCF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4D8-CC79-4CBB-A4FE-5C812F7BAE39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4D01-55C3-4802-9811-6D19B19589F2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9800" y="953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72428"/>
                </a:solidFill>
                <a:latin typeface="Constantia"/>
              </a:rPr>
              <a:t>Make a Flower Lab</a:t>
            </a:r>
            <a:endParaRPr b="0" lang="en-US" sz="6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2440" y="2895120"/>
            <a:ext cx="45590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2428"/>
                </a:solidFill>
                <a:latin typeface="Candara"/>
              </a:rPr>
              <a:t>ASIM Biology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lnSpc>
                <a:spcPct val="12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2428"/>
                </a:solidFill>
                <a:latin typeface="Candara"/>
              </a:rPr>
              <a:t>Biology COS Objective 10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aynesword.palomar.edu/images/dicot3.gif"/>
          <p:cNvPicPr/>
          <p:nvPr/>
        </p:nvPicPr>
        <p:blipFill>
          <a:blip r:embed="rId1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838080" y="6095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http://waynesword.palomar.edu/images/monocot3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415"/>
                </a:solidFill>
                <a:latin typeface="Constantia"/>
              </a:rPr>
              <a:t>For the next few slides, view the pictures and decide if the flower shown is a monocot or a dicot!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30" name="Picture 3" descr="cd3214-62.jpg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hcs.ohio-state.edu/mgonline/botany/gro04/04gro04a.htm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33" name="Picture 3" descr="cd3214-62.jpg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hcs.ohio-state.edu/mgonline/botany/gro04/04gro04a.htm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6248520" y="243828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Di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37" name="Picture 5" descr="monocot_flower.gif"/>
          <p:cNvPicPr/>
          <p:nvPr/>
        </p:nvPicPr>
        <p:blipFill>
          <a:blip r:embed="rId1"/>
          <a:stretch/>
        </p:blipFill>
        <p:spPr>
          <a:xfrm>
            <a:off x="1600200" y="14479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1600200" y="6019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OnLineBiology/OLBB/www.emc.maricopa.edu/faculty/farabee/BIOBK/monocot_flower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40" name="Picture 5" descr="monocot_flower.gif"/>
          <p:cNvPicPr/>
          <p:nvPr/>
        </p:nvPicPr>
        <p:blipFill>
          <a:blip r:embed="rId1"/>
          <a:stretch/>
        </p:blipFill>
        <p:spPr>
          <a:xfrm>
            <a:off x="1600200" y="14479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1600200" y="6019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OnLineBiology/OLBB/www.emc.maricopa.edu/faculty/farabee/BIOBK/monocot_flower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6172200" y="1981080"/>
            <a:ext cx="259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Mono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44" name="Picture 5" descr="Monocots2.jpg"/>
          <p:cNvPicPr/>
          <p:nvPr/>
        </p:nvPicPr>
        <p:blipFill>
          <a:blip r:embed="rId1"/>
          <a:stretch/>
        </p:blipFill>
        <p:spPr>
          <a:xfrm>
            <a:off x="1447920" y="1371600"/>
            <a:ext cx="4495680" cy="457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447920" y="6019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kew.org/science/directory/teams/MonocotsI/images/MonocotsI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47" name="Picture 5" descr="Monocots2.jpg"/>
          <p:cNvPicPr/>
          <p:nvPr/>
        </p:nvPicPr>
        <p:blipFill>
          <a:blip r:embed="rId1"/>
          <a:stretch/>
        </p:blipFill>
        <p:spPr>
          <a:xfrm>
            <a:off x="1447920" y="1371600"/>
            <a:ext cx="449568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1447920" y="6019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kew.org/science/directory/teams/MonocotsI/images/MonocotsI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6248520" y="182880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Mono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lect/lect_15/22_68B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52" name="Picture 6" descr="dicot3.gif"/>
          <p:cNvPicPr/>
          <p:nvPr/>
        </p:nvPicPr>
        <p:blipFill>
          <a:blip r:embed="rId1"/>
          <a:stretch/>
        </p:blipFill>
        <p:spPr>
          <a:xfrm>
            <a:off x="1600200" y="129528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lect/lect_15/22_68B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55" name="Picture 6" descr="dicot3.gif"/>
          <p:cNvPicPr/>
          <p:nvPr/>
        </p:nvPicPr>
        <p:blipFill>
          <a:blip r:embed="rId1"/>
          <a:stretch/>
        </p:blipFill>
        <p:spPr>
          <a:xfrm>
            <a:off x="1600200" y="1295280"/>
            <a:ext cx="4419720" cy="4572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6324480" y="228600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Di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0415"/>
                </a:solidFill>
                <a:latin typeface="Constantia"/>
              </a:rPr>
              <a:t>Introduction</a:t>
            </a:r>
            <a:endParaRPr b="0" lang="en-US" sz="44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1371240"/>
            <a:ext cx="7239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800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In this lab, we will be studying angiosperms.  </a:t>
            </a:r>
            <a:r>
              <a:rPr b="1" lang="en-US" sz="3500" spc="-1" strike="noStrike" u="sng">
                <a:solidFill>
                  <a:srgbClr val="160415"/>
                </a:solidFill>
                <a:uFillTx/>
                <a:latin typeface="Candara"/>
              </a:rPr>
              <a:t>Angiosperms</a:t>
            </a: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 are  </a:t>
            </a:r>
            <a:r>
              <a:rPr b="1" lang="en-US" sz="3500" spc="-1" strike="noStrike" u="sng">
                <a:solidFill>
                  <a:srgbClr val="160415"/>
                </a:solidFill>
                <a:uFillTx/>
                <a:latin typeface="Candara"/>
              </a:rPr>
              <a:t>vascular plants </a:t>
            </a: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(have water and nutrient conducting structures) that produce </a:t>
            </a:r>
            <a:r>
              <a:rPr b="1" lang="en-US" sz="3500" spc="-1" strike="noStrike" u="sng">
                <a:solidFill>
                  <a:srgbClr val="160415"/>
                </a:solidFill>
                <a:uFillTx/>
                <a:latin typeface="Candara"/>
              </a:rPr>
              <a:t>flowers</a:t>
            </a: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, which contain the plant’s reproductive organs. </a:t>
            </a: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990720" y="6019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backyardnature.net/ruellia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59" name="Picture 5" descr="dicot2.jpg"/>
          <p:cNvPicPr/>
          <p:nvPr/>
        </p:nvPicPr>
        <p:blipFill>
          <a:blip r:embed="rId1"/>
          <a:stretch/>
        </p:blipFill>
        <p:spPr>
          <a:xfrm>
            <a:off x="1371600" y="13716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990720" y="6019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backyardnature.net/ruellia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62" name="Picture 5" descr="dicot2.jpg"/>
          <p:cNvPicPr/>
          <p:nvPr/>
        </p:nvPicPr>
        <p:blipFill>
          <a:blip r:embed="rId1"/>
          <a:stretch/>
        </p:blipFill>
        <p:spPr>
          <a:xfrm>
            <a:off x="1371600" y="137160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6"/>
          <p:cNvSpPr/>
          <p:nvPr/>
        </p:nvSpPr>
        <p:spPr>
          <a:xfrm>
            <a:off x="6400800" y="236232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Di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6666"/>
                </a:solidFill>
                <a:latin typeface="Constantia"/>
              </a:rPr>
              <a:t>Let’s review the parts of a flower again.  Also, see if you can identify some monocots and dicots.</a:t>
            </a:r>
            <a:br>
              <a:rPr sz="2500"/>
            </a:br>
            <a:r>
              <a:rPr b="1" lang="en-US" sz="1500" spc="-1" strike="noStrike">
                <a:solidFill>
                  <a:srgbClr val="666666"/>
                </a:solidFill>
                <a:latin typeface="Constantia"/>
              </a:rPr>
              <a:t>(click below for video)</a:t>
            </a:r>
            <a:endParaRPr b="0" lang="en-US" sz="15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65" name="Parts of a Flower.wmv" descr=""/>
          <p:cNvPicPr/>
          <p:nvPr/>
        </p:nvPicPr>
        <p:blipFill>
          <a:blip r:embed="rId1"/>
          <a:stretch/>
        </p:blipFill>
        <p:spPr>
          <a:xfrm>
            <a:off x="1523880" y="17668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66" name="Parts of a Flower.wmv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99072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Within the flower, </a:t>
            </a:r>
            <a:r>
              <a:rPr b="1" lang="en-US" sz="4000" spc="-1" strike="noStrike" u="sng">
                <a:solidFill>
                  <a:srgbClr val="160415"/>
                </a:solidFill>
                <a:uFillTx/>
                <a:latin typeface="Candara"/>
              </a:rPr>
              <a:t>seeds</a:t>
            </a: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 will be produced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In angiosperms, seeds are enclosed in a structure called the </a:t>
            </a:r>
            <a:r>
              <a:rPr b="1" lang="en-US" sz="4000" spc="-1" strike="noStrike" u="sng">
                <a:solidFill>
                  <a:srgbClr val="160415"/>
                </a:solidFill>
                <a:uFillTx/>
                <a:latin typeface="Candara"/>
              </a:rPr>
              <a:t>ovary</a:t>
            </a: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, which will mature into a </a:t>
            </a:r>
            <a:r>
              <a:rPr b="1" lang="en-US" sz="4000" spc="-1" strike="noStrike" u="sng">
                <a:solidFill>
                  <a:srgbClr val="160415"/>
                </a:solidFill>
                <a:uFillTx/>
                <a:latin typeface="Candara"/>
              </a:rPr>
              <a:t>fruit</a:t>
            </a: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61760" y="304920"/>
            <a:ext cx="7467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3480" indent="-3034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0415"/>
                </a:solidFill>
                <a:latin typeface="Candara"/>
              </a:rPr>
              <a:t> </a:t>
            </a:r>
            <a:r>
              <a:rPr b="1" lang="en-US" sz="3800" spc="-1" strike="noStrike">
                <a:solidFill>
                  <a:srgbClr val="160415"/>
                </a:solidFill>
                <a:latin typeface="Candara"/>
              </a:rPr>
              <a:t>There are four major floral parts:</a:t>
            </a:r>
            <a:endParaRPr b="0" lang="en-US" sz="38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 </a:t>
            </a: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corolla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 -the collective name for the petals, which are above the sepals and are usually brightly colored and sometimes scented to attract pollinator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 </a:t>
            </a: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calyx 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-collective name for the sepals, which are the leaf-like structures at the flowers base to protect the developing bud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stamen(s) 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- the male portion of a flower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pistil(s) 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- the female portion of a flower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Subtitle 2" descr=""/>
          <p:cNvPicPr/>
          <p:nvPr/>
        </p:nvPicPr>
        <p:blipFill>
          <a:blip r:embed="rId1"/>
          <a:stretch/>
        </p:blipFill>
        <p:spPr>
          <a:xfrm>
            <a:off x="658800" y="981000"/>
            <a:ext cx="7704000" cy="47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onstantia"/>
              </a:rPr>
              <a:t>Parts of a Flower</a:t>
            </a:r>
            <a:endParaRPr b="0" lang="en-US" sz="44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18" name="Content Placeholder 3" descr="flower12.gif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4876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685800" y="6324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ttp://urbanext.illinois.edu/gpe/case1/c1facts2d.htm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2428"/>
                </a:solidFill>
                <a:latin typeface="Constantia"/>
              </a:rPr>
              <a:t>Monocots</a:t>
            </a:r>
            <a:endParaRPr b="0" lang="en-US" sz="72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1 cotyledon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Floral parts in multiples of 3’s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Parallel venation pattern in leaves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Vascular bundles scattered in stem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Fibrous root</a:t>
            </a: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lnSpc>
                <a:spcPct val="12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Examples: grasses, sedges, lilies, orchids and onions.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waynesword.palomar.edu/images/monocot3.gif"/>
          <p:cNvPicPr/>
          <p:nvPr/>
        </p:nvPicPr>
        <p:blipFill>
          <a:blip r:embed="rId1"/>
          <a:stretch/>
        </p:blipFill>
        <p:spPr>
          <a:xfrm>
            <a:off x="1066680" y="762120"/>
            <a:ext cx="6489720" cy="5029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066680" y="6095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http://waynesword.palomar.edu/images/monocot3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66"/>
                </a:solidFill>
                <a:latin typeface="Constantia"/>
              </a:rPr>
              <a:t>Dicots</a:t>
            </a:r>
            <a:endParaRPr b="0" lang="en-US" sz="72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25" name="Content Placeholder 3" descr=""/>
          <p:cNvPicPr/>
          <p:nvPr/>
        </p:nvPicPr>
        <p:blipFill>
          <a:blip r:embed="rId1"/>
          <a:stretch/>
        </p:blipFill>
        <p:spPr>
          <a:xfrm>
            <a:off x="987480" y="1206360"/>
            <a:ext cx="6797520" cy="520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4:21:38Z</dcterms:created>
  <dc:creator>Case</dc:creator>
  <dc:description/>
  <dc:language>en-US</dc:language>
  <cp:lastModifiedBy>Case</cp:lastModifiedBy>
  <dcterms:modified xsi:type="dcterms:W3CDTF">2010-01-14T09:08:26Z</dcterms:modified>
  <cp:revision>31</cp:revision>
  <dc:subject/>
  <dc:title>Make a Flower Lab</dc:title>
</cp:coreProperties>
</file>